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  <p:custShowLst>
    <p:custShow name="Transparencies" id="0">
      <p:sldLst>
        <p:sld r:id="rId18"/>
        <p:sld r:id="rId23"/>
        <p:sld r:id="rId24"/>
        <p:sld r:id="rId25"/>
      </p:sldLst>
    </p:custShow>
    <p:custShow name="Chapter menu" id="1">
      <p:sldLst>
        <p:sld r:id="rId14"/>
      </p:sldLst>
    </p:custShow>
    <p:custShow name="Chapter" id="2">
      <p:sldLst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Section 1" id="3">
      <p:sldLst>
        <p:sld r:id="rId15"/>
        <p:sld r:id="rId16"/>
        <p:sld r:id="rId17"/>
        <p:sld r:id="rId18"/>
        <p:sld r:id="rId19"/>
        <p:sld r:id="rId14"/>
      </p:sldLst>
    </p:custShow>
    <p:custShow name="Section 3" id="4">
      <p:sldLst>
        <p:sld r:id="rId20"/>
        <p:sld r:id="rId21"/>
        <p:sld r:id="rId22"/>
        <p:sld r:id="rId23"/>
        <p:sld r:id="rId24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3024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assification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Biodiversi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Section 3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Modern Classific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ogenetic Diagram of Major Groups of Organism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p147"/>
          <p:cNvPicPr/>
          <p:nvPr/>
        </p:nvPicPr>
        <p:blipFill>
          <a:blip r:embed="rId3"/>
          <a:stretch/>
        </p:blipFill>
        <p:spPr>
          <a:xfrm>
            <a:off x="1090440" y="1600200"/>
            <a:ext cx="747396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Kingdom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Rectangle 9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3" descr="p148"/>
          <p:cNvPicPr/>
          <p:nvPr/>
        </p:nvPicPr>
        <p:blipFill>
          <a:blip r:embed="rId3"/>
          <a:stretch/>
        </p:blipFill>
        <p:spPr>
          <a:xfrm>
            <a:off x="457200" y="1676520"/>
            <a:ext cx="81979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gdom and Domain Characteristic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0" descr="p149"/>
          <p:cNvPicPr/>
          <p:nvPr/>
        </p:nvPicPr>
        <p:blipFill>
          <a:blip r:embed="rId3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10"/>
          <p:cNvSpPr/>
          <p:nvPr/>
        </p:nvSpPr>
        <p:spPr>
          <a:xfrm>
            <a:off x="2743200" y="2438280"/>
            <a:ext cx="5791320" cy="36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0" descr="p149"/>
          <p:cNvPicPr/>
          <p:nvPr/>
        </p:nvPicPr>
        <p:blipFill>
          <a:blip r:embed="rId1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10"/>
          <p:cNvSpPr/>
          <p:nvPr/>
        </p:nvSpPr>
        <p:spPr>
          <a:xfrm>
            <a:off x="3809880" y="2438280"/>
            <a:ext cx="4724640" cy="36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0" descr="p149"/>
          <p:cNvPicPr/>
          <p:nvPr/>
        </p:nvPicPr>
        <p:blipFill>
          <a:blip r:embed="rId1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0"/>
          <p:cNvSpPr/>
          <p:nvPr/>
        </p:nvSpPr>
        <p:spPr>
          <a:xfrm>
            <a:off x="5079960" y="2438280"/>
            <a:ext cx="3454560" cy="36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0" descr="p149"/>
          <p:cNvPicPr/>
          <p:nvPr/>
        </p:nvPicPr>
        <p:blipFill>
          <a:blip r:embed="rId1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0"/>
          <p:cNvSpPr/>
          <p:nvPr/>
        </p:nvSpPr>
        <p:spPr>
          <a:xfrm>
            <a:off x="6172200" y="2438280"/>
            <a:ext cx="2362320" cy="36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0" descr="p149"/>
          <p:cNvPicPr/>
          <p:nvPr/>
        </p:nvPicPr>
        <p:blipFill>
          <a:blip r:embed="rId1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10"/>
          <p:cNvSpPr/>
          <p:nvPr/>
        </p:nvSpPr>
        <p:spPr>
          <a:xfrm>
            <a:off x="7315200" y="2438280"/>
            <a:ext cx="1219320" cy="367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" descr="p149"/>
          <p:cNvPicPr/>
          <p:nvPr/>
        </p:nvPicPr>
        <p:blipFill>
          <a:blip r:embed="rId1"/>
          <a:stretch/>
        </p:blipFill>
        <p:spPr>
          <a:xfrm>
            <a:off x="457200" y="1671480"/>
            <a:ext cx="8107200" cy="44452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diversity to biological classific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naturalists replaced Aristotle’s classification syste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in criterion that Linnaeus used to classify organis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on levels of modern classification from general to specifi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assifying Organism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ists have invented several systems for categorizing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diversity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he variety of organisms considered at all levels from populations to ecosyste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76720" y="731520"/>
            <a:ext cx="5664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xonom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ists replaced Aristotle’s classification system because it did not adequately cover all organisms and because his use of common names was problemati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xonom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cience of describing, naming, and classifying organis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Linnaean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lus Linnaeus devised a seven-level hierarchical system for classifying organisms according to their form and structur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most general to the most specific,the levels are kingdom, phylum, class, order, family,genus, and speci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037" descr="p142"/>
          <p:cNvPicPr/>
          <p:nvPr/>
        </p:nvPicPr>
        <p:blipFill>
          <a:blip r:embed="rId2"/>
          <a:stretch/>
        </p:blipFill>
        <p:spPr>
          <a:xfrm>
            <a:off x="457200" y="1050840"/>
            <a:ext cx="8305920" cy="5129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027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09320" y="106668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 Hierarchy of Organism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Text Box 1030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3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3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evels of Classification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nomial Nomenclatu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part of Linnaeus’s system was assigning each species a two-part scientific name—a genus name, such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a species identifier, such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pie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ystem of a two-part name is known a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nomial nomenclatu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vidence that prompted the invention of the three-domain system of classific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aracteristics that distinguish between the domains Bacteria, Archaea, and Eukarya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x-kingdom system of classific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atic taxa in the six-kingdom system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taxonomic systems continue to change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Tree of Lif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vising the Tre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ylogenetic analysis of rRNA nucleotide sequences by Carol Woese led to a new “tree of life” consisting of three domains aligned with six kingdo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02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028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04960" y="731520"/>
            <a:ext cx="41907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ree Domains of Lif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domains ar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Bacteria, Archaea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Eukary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igns with Kingdom Eubacteria, which consists of single-celled prokaryotes that are true bacteri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cha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igns with Kingdom Archaebacteria, which consists of single-celled prokaryotes that have distinctive cell membranes and cell wall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ukary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the kingdoms Protista, Fungi, Plantae, and Animalia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mbers of this domain have eukaryotic cell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1-04T15:11:07Z</dcterms:modified>
  <cp:revision>645</cp:revision>
  <dc:subject/>
  <dc:title>No Slide Title</dc:title>
</cp:coreProperties>
</file>